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Kt119_91.wav" ContentType="audio/x-wav"/>
  <Override PartName="/ppt/media/S4beep.wav" ContentType="audio/x-wav"/>
  <Override PartName="/ppt/media/Gaz_2x.wav" ContentType="audio/x-wav"/>
  <Override PartName="/ppt/media/image2.png" ContentType="image/png"/>
  <Override PartName="/ppt/media/Gaz_1b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D4D-D20C-4B7E-B44B-40D73321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A4C-D67E-4BB9-89CA-A88C86A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E66-0E5D-4085-B6E0-A9A83939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4D3-9213-42D0-B83F-DB1B9A7B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083-CBEF-404B-B3ED-6C882F0E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8F4-EAD9-4D5C-AD36-81D32426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2E4-BA25-4ECC-AE19-70D51A68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D95-08E0-4637-A3E6-A80A685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ABB-A82F-49A5-BA9B-B655FC3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170-27A2-4875-9121-6E1B18D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CDA-3249-4DC1-8134-0C9A639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573-28DE-4F9A-85F7-9AB8DD1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73D2-A3C9-4183-B12C-DDF6E1AB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t119_9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t119_91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4beep.wav"/><Relationship Id="rId3" Type="http://schemas.openxmlformats.org/officeDocument/2006/relationships/audio" Target="../media/S4beep.wav"/><Relationship Id="rId4" Type="http://schemas.openxmlformats.org/officeDocument/2006/relationships/audio" Target="../media/S4beep.wav"/><Relationship Id="rId5" Type="http://schemas.openxmlformats.org/officeDocument/2006/relationships/audio" Target="../media/S4beep.wav"/><Relationship Id="rId6" Type="http://schemas.openxmlformats.org/officeDocument/2006/relationships/audio" Target="../media/S4beep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z_2x.wav"/><Relationship Id="rId3" Type="http://schemas.openxmlformats.org/officeDocument/2006/relationships/audio" Target="../media/Gaz_1b.wav"/><Relationship Id="rId4" Type="http://schemas.openxmlformats.org/officeDocument/2006/relationships/audio" Target="../media/Gaz_1b.wav"/><Relationship Id="rId5" Type="http://schemas.openxmlformats.org/officeDocument/2006/relationships/audio" Target="../media/Gaz_1b.wav"/><Relationship Id="rId6" Type="http://schemas.openxmlformats.org/officeDocument/2006/relationships/audio" Target="../media/Gaz_1b.wav"/><Relationship Id="rId7" Type="http://schemas.openxmlformats.org/officeDocument/2006/relationships/audio" Target="../media/Gaz_2x.wav"/><Relationship Id="rId8" Type="http://schemas.openxmlformats.org/officeDocument/2006/relationships/audio" Target="../media/Gaz_1b.wav"/><Relationship Id="rId9" Type="http://schemas.openxmlformats.org/officeDocument/2006/relationships/audio" Target="../media/S4bee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0080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t119_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68360" y="304920"/>
            <a:ext cx="8218440" cy="533232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5867280"/>
            <a:ext cx="6400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Arial Black"/>
              </a:rPr>
              <a:t>TV &amp; MEDIA DIS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498312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22200" y="228600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dge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1325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33080" y="3581280"/>
            <a:ext cx="5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2057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30660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er’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905120"/>
            <a:ext cx="2819160" cy="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048120" y="1142640"/>
            <a:ext cx="533160" cy="76212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1143000"/>
            <a:ext cx="1218960" cy="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990720"/>
            <a:ext cx="228600" cy="228600"/>
          </a:xfrm>
          <a:prstGeom prst="rect">
            <a:avLst/>
          </a:prstGeom>
          <a:solidFill>
            <a:srgbClr val="ed18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1143000"/>
            <a:ext cx="0" cy="152280"/>
          </a:xfrm>
          <a:prstGeom prst="line">
            <a:avLst/>
          </a:prstGeom>
          <a:ln w="7632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1295280"/>
            <a:ext cx="3962520" cy="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1295280"/>
            <a:ext cx="0" cy="160020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2895480"/>
            <a:ext cx="1447920" cy="533520"/>
          </a:xfrm>
          <a:prstGeom prst="rightArrowCallout">
            <a:avLst>
              <a:gd name="adj1" fmla="val 25002"/>
              <a:gd name="adj2" fmla="val 25000"/>
              <a:gd name="adj3" fmla="val 45232"/>
              <a:gd name="adj4" fmla="val 6666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762120"/>
            <a:ext cx="1523880" cy="457200"/>
          </a:xfrm>
          <a:prstGeom prst="leftArrowCallout">
            <a:avLst>
              <a:gd name="adj1" fmla="val 25002"/>
              <a:gd name="adj2" fmla="val 25000"/>
              <a:gd name="adj3" fmla="val 55551"/>
              <a:gd name="adj4" fmla="val 66673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s/ Me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762120"/>
            <a:ext cx="1447560" cy="533160"/>
          </a:xfrm>
          <a:prstGeom prst="rightArrowCallout">
            <a:avLst>
              <a:gd name="adj1" fmla="val 25002"/>
              <a:gd name="adj2" fmla="val 25000"/>
              <a:gd name="adj3" fmla="val 45251"/>
              <a:gd name="adj4" fmla="val 6666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nouncer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6095880"/>
            <a:ext cx="1066680" cy="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1720" y="5943600"/>
            <a:ext cx="17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Network Cable 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838080"/>
            <a:ext cx="304560" cy="838440"/>
          </a:xfrm>
          <a:custGeom>
            <a:avLst/>
            <a:gdLst>
              <a:gd name="textAreaLeft" fmla="*/ 40680 w 304560"/>
              <a:gd name="textAreaRight" fmla="*/ 263880 w 30456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838080"/>
            <a:ext cx="914400" cy="533520"/>
          </a:xfrm>
          <a:prstGeom prst="downArrowCallout">
            <a:avLst>
              <a:gd name="adj1" fmla="val 42851"/>
              <a:gd name="adj2" fmla="val 42848"/>
              <a:gd name="adj3" fmla="val 16667"/>
              <a:gd name="adj4" fmla="val 6666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V TRU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97280" y="1331280"/>
            <a:ext cx="901800" cy="1006920"/>
            <a:chOff x="197280" y="1331280"/>
            <a:chExt cx="901800" cy="1006920"/>
          </a:xfrm>
        </p:grpSpPr>
        <p:sp>
          <p:nvSpPr>
            <p:cNvPr id="313" name=""/>
            <p:cNvSpPr/>
            <p:nvPr/>
          </p:nvSpPr>
          <p:spPr>
            <a:xfrm rot="8737200">
              <a:off x="456840" y="1371600"/>
              <a:ext cx="380880" cy="769680"/>
            </a:xfrm>
            <a:prstGeom prst="cube">
              <a:avLst>
                <a:gd name="adj" fmla="val 25601"/>
              </a:avLst>
            </a:prstGeom>
            <a:solidFill>
              <a:srgbClr val="ed181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8917200">
              <a:off x="761400" y="1980720"/>
              <a:ext cx="299880" cy="228600"/>
            </a:xfrm>
            <a:prstGeom prst="cube">
              <a:avLst>
                <a:gd name="adj" fmla="val 32972"/>
              </a:avLst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282000">
              <a:off x="248040" y="1616040"/>
              <a:ext cx="76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NewsGoth BdCn BT"/>
                </a:rPr>
                <a:t>W V L 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589480" y="18828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/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95480" y="914400"/>
            <a:ext cx="533520" cy="838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1752480"/>
            <a:ext cx="1981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990720"/>
            <a:ext cx="228600" cy="228600"/>
          </a:xfrm>
          <a:prstGeom prst="rect">
            <a:avLst/>
          </a:prstGeom>
          <a:solidFill>
            <a:srgbClr val="ed18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914400"/>
            <a:ext cx="1143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9144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990720"/>
            <a:ext cx="228600" cy="228600"/>
          </a:xfrm>
          <a:prstGeom prst="rect">
            <a:avLst/>
          </a:prstGeom>
          <a:solidFill>
            <a:srgbClr val="ed18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228600"/>
            <a:ext cx="1143000" cy="609480"/>
          </a:xfrm>
          <a:prstGeom prst="downArrowCallout">
            <a:avLst>
              <a:gd name="adj1" fmla="val 46888"/>
              <a:gd name="adj2" fmla="val 46884"/>
              <a:gd name="adj3" fmla="val 16667"/>
              <a:gd name="adj4" fmla="val 6666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96960" y="6172200"/>
            <a:ext cx="158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Video Cable 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96960" y="6400800"/>
            <a:ext cx="16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Scoreboard Signal 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6324480"/>
            <a:ext cx="1066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6553080"/>
            <a:ext cx="1066680" cy="0"/>
          </a:xfrm>
          <a:prstGeom prst="line">
            <a:avLst/>
          </a:prstGeom>
          <a:ln w="572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425" r="0" b="7723"/>
          <a:stretch/>
        </p:blipFill>
        <p:spPr>
          <a:xfrm>
            <a:off x="152280" y="154080"/>
            <a:ext cx="8839440" cy="571644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4" name=""/>
          <p:cNvSpPr txBox="1"/>
          <p:nvPr/>
        </p:nvSpPr>
        <p:spPr>
          <a:xfrm>
            <a:off x="685800" y="5486400"/>
            <a:ext cx="7620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1822c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LODR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1822cd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t119_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396" r="0" b="7762"/>
          <a:stretch/>
        </p:blipFill>
        <p:spPr>
          <a:xfrm>
            <a:off x="152280" y="152280"/>
            <a:ext cx="8839440" cy="571500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" name=""/>
          <p:cNvSpPr txBox="1"/>
          <p:nvPr/>
        </p:nvSpPr>
        <p:spPr>
          <a:xfrm>
            <a:off x="762120" y="548640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00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LODR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0000b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0400" y="2362320"/>
            <a:ext cx="119376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Impact"/>
              </a:rPr>
              <a:t>Judges Stan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24280" y="3098880"/>
            <a:ext cx="72396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rters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n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1816200"/>
            <a:ext cx="96516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rt/Finish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3276720"/>
            <a:ext cx="53316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200m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00600" y="4648320"/>
            <a:ext cx="1219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ursuit 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24280" y="1854360"/>
            <a:ext cx="106704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ursuit 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396" r="0" b="7762"/>
          <a:stretch/>
        </p:blipFill>
        <p:spPr>
          <a:xfrm>
            <a:off x="152280" y="152280"/>
            <a:ext cx="8839440" cy="571500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6" name=""/>
          <p:cNvSpPr txBox="1"/>
          <p:nvPr/>
        </p:nvSpPr>
        <p:spPr>
          <a:xfrm>
            <a:off x="762120" y="548640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00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LODR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0000b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97080" y="838080"/>
            <a:ext cx="130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Announcer/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peaker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78440" y="685800"/>
            <a:ext cx="81288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ress Box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70480" y="4800600"/>
            <a:ext cx="139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Back-straight</a:t>
            </a:r>
            <a:endParaRPr b="0" lang="en-US" sz="20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eating</a:t>
            </a:r>
            <a:endParaRPr b="0" lang="en-US" sz="20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57600" y="1143000"/>
            <a:ext cx="13716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Home-straight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eating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467480" y="2971800"/>
            <a:ext cx="10670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Electronic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coreboar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30520" y="609480"/>
            <a:ext cx="111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Control Room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1240" y="1331280"/>
            <a:ext cx="925560" cy="943560"/>
            <a:chOff x="21240" y="1331280"/>
            <a:chExt cx="925560" cy="943560"/>
          </a:xfrm>
        </p:grpSpPr>
        <p:sp>
          <p:nvSpPr>
            <p:cNvPr id="64" name=""/>
            <p:cNvSpPr/>
            <p:nvPr/>
          </p:nvSpPr>
          <p:spPr>
            <a:xfrm rot="8737200">
              <a:off x="304560" y="1371600"/>
              <a:ext cx="380880" cy="769680"/>
            </a:xfrm>
            <a:prstGeom prst="cube">
              <a:avLst>
                <a:gd name="adj" fmla="val 2560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917200">
              <a:off x="609120" y="1980720"/>
              <a:ext cx="299880" cy="228600"/>
            </a:xfrm>
            <a:prstGeom prst="cube">
              <a:avLst>
                <a:gd name="adj" fmla="val 3297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3282000">
              <a:off x="72000" y="1552680"/>
              <a:ext cx="76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NewsGoth BdCn BT"/>
                </a:rPr>
                <a:t>W V L 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533520" y="1066680"/>
            <a:ext cx="77472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TV Truck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z_2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az_1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az_1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az_1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az_1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az_2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az_1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4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2396" r="0" b="7762"/>
          <a:stretch/>
        </p:blipFill>
        <p:spPr>
          <a:xfrm>
            <a:off x="152280" y="152280"/>
            <a:ext cx="8839440" cy="571500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0" name=""/>
          <p:cNvSpPr txBox="1"/>
          <p:nvPr/>
        </p:nvSpPr>
        <p:spPr>
          <a:xfrm>
            <a:off x="762120" y="563868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00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LODR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0000b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97080" y="838080"/>
            <a:ext cx="130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Announcer/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peaker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978440" y="685800"/>
            <a:ext cx="81288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ress Box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470480" y="5029200"/>
            <a:ext cx="139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Back-straight</a:t>
            </a:r>
            <a:endParaRPr b="0" lang="en-US" sz="20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eating</a:t>
            </a:r>
            <a:endParaRPr b="0" lang="en-US" sz="20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57600" y="1143000"/>
            <a:ext cx="13716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Home-straight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eating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43800" y="2895480"/>
            <a:ext cx="10666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Electronic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coreboar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06840" y="609480"/>
            <a:ext cx="1117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Control Room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240" y="1331280"/>
            <a:ext cx="925560" cy="943560"/>
            <a:chOff x="21240" y="1331280"/>
            <a:chExt cx="925560" cy="943560"/>
          </a:xfrm>
        </p:grpSpPr>
        <p:sp>
          <p:nvSpPr>
            <p:cNvPr id="78" name=""/>
            <p:cNvSpPr/>
            <p:nvPr/>
          </p:nvSpPr>
          <p:spPr>
            <a:xfrm rot="8737200">
              <a:off x="304560" y="1371600"/>
              <a:ext cx="380880" cy="769680"/>
            </a:xfrm>
            <a:prstGeom prst="cube">
              <a:avLst>
                <a:gd name="adj" fmla="val 2560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8917200">
              <a:off x="609120" y="1980720"/>
              <a:ext cx="299880" cy="228600"/>
            </a:xfrm>
            <a:prstGeom prst="cube">
              <a:avLst>
                <a:gd name="adj" fmla="val 32972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282000">
              <a:off x="72000" y="1552680"/>
              <a:ext cx="76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NewsGoth BdCn BT"/>
                </a:rPr>
                <a:t>W V L 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457200" y="990720"/>
            <a:ext cx="77472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TV Truck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25960" y="2311560"/>
            <a:ext cx="119376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Impact"/>
              </a:rPr>
              <a:t>Judges Stan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00600" y="3048120"/>
            <a:ext cx="72396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rters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nd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92440" y="1828800"/>
            <a:ext cx="96516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Start/Finish</a:t>
            </a:r>
            <a:endParaRPr b="0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327480"/>
            <a:ext cx="5335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200m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00600" y="4495680"/>
            <a:ext cx="1219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ursuit 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24280" y="1828800"/>
            <a:ext cx="106704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Pursuit Line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57200" y="304920"/>
            <a:ext cx="8218440" cy="533232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0" name=""/>
          <p:cNvSpPr txBox="1"/>
          <p:nvPr/>
        </p:nvSpPr>
        <p:spPr>
          <a:xfrm>
            <a:off x="4952880" y="3048120"/>
            <a:ext cx="1295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822cd"/>
                </a:solidFill>
                <a:effectLst>
                  <a:outerShdw dist="17819" dir="2700000" blurRad="0" rotWithShape="0">
                    <a:srgbClr val="184b81"/>
                  </a:outerShdw>
                </a:effectLst>
                <a:latin typeface="Impact"/>
              </a:rPr>
              <a:t>Starters</a:t>
            </a:r>
            <a:endParaRPr b="0" lang="en-US" sz="1800" spc="1" strike="noStrike">
              <a:ln w="0">
                <a:noFill/>
              </a:ln>
              <a:solidFill>
                <a:srgbClr val="1822cd"/>
              </a:solidFill>
              <a:effectLst>
                <a:outerShdw dist="17819" dir="2700000" blurRad="0" rotWithShape="0">
                  <a:srgbClr val="184b81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822cd"/>
                </a:solidFill>
                <a:effectLst>
                  <a:outerShdw dist="17819" dir="2700000" blurRad="0" rotWithShape="0">
                    <a:srgbClr val="184b81"/>
                  </a:outerShdw>
                </a:effectLst>
                <a:latin typeface="Impact"/>
              </a:rPr>
              <a:t>Stand</a:t>
            </a:r>
            <a:endParaRPr b="0" lang="en-US" sz="1800" spc="1" strike="noStrike">
              <a:ln w="0">
                <a:noFill/>
              </a:ln>
              <a:solidFill>
                <a:srgbClr val="1822cd"/>
              </a:solidFill>
              <a:effectLst>
                <a:outerShdw dist="17819" dir="2700000" blurRad="0" rotWithShape="0">
                  <a:srgbClr val="184b81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209680"/>
            <a:ext cx="0" cy="2590920"/>
          </a:xfrm>
          <a:prstGeom prst="line">
            <a:avLst/>
          </a:prstGeom>
          <a:ln w="76320">
            <a:solidFill>
              <a:srgbClr val="229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rot="5400000">
            <a:off x="4838040" y="4304880"/>
            <a:ext cx="304920" cy="2286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867280"/>
            <a:ext cx="6400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bf0c"/>
                </a:solidFill>
                <a:latin typeface="Arial Black"/>
              </a:rPr>
              <a:t>STA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90400" y="5943600"/>
            <a:ext cx="190440" cy="2667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191120" y="6324480"/>
            <a:ext cx="228600" cy="304920"/>
            <a:chOff x="4191120" y="6324480"/>
            <a:chExt cx="228600" cy="304920"/>
          </a:xfrm>
        </p:grpSpPr>
        <p:sp>
          <p:nvSpPr>
            <p:cNvPr id="96" name=""/>
            <p:cNvSpPr/>
            <p:nvPr/>
          </p:nvSpPr>
          <p:spPr>
            <a:xfrm>
              <a:off x="4191120" y="6324480"/>
              <a:ext cx="228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eb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36480" y="6383880"/>
              <a:ext cx="141480" cy="9252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6480" y="6476760"/>
              <a:ext cx="141480" cy="9252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6477120" y="601920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152960" y="2323800"/>
            <a:ext cx="304920" cy="2286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477120"/>
            <a:ext cx="188640" cy="115920"/>
          </a:xfrm>
          <a:prstGeom prst="octagon">
            <a:avLst>
              <a:gd name="adj" fmla="val 29287"/>
            </a:avLst>
          </a:prstGeom>
          <a:solidFill>
            <a:srgbClr val="0eb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20968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572000"/>
            <a:ext cx="22860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144" y="144"/>
                </a:moveTo>
                <a:cubicBezTo>
                  <a:pt x="104" y="148"/>
                  <a:pt x="64" y="152"/>
                  <a:pt x="48" y="144"/>
                </a:cubicBezTo>
                <a:cubicBezTo>
                  <a:pt x="32" y="136"/>
                  <a:pt x="40" y="112"/>
                  <a:pt x="48" y="96"/>
                </a:cubicBezTo>
                <a:cubicBezTo>
                  <a:pt x="56" y="80"/>
                  <a:pt x="104" y="64"/>
                  <a:pt x="96" y="48"/>
                </a:cubicBezTo>
                <a:cubicBezTo>
                  <a:pt x="88" y="32"/>
                  <a:pt x="16" y="8"/>
                  <a:pt x="0" y="0"/>
                </a:cubicBezTo>
              </a:path>
            </a:pathLst>
          </a:custGeom>
          <a:noFill/>
          <a:ln w="2844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4267080"/>
            <a:ext cx="304920" cy="3049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0"/>
                </a:moveTo>
                <a:cubicBezTo>
                  <a:pt x="80" y="40"/>
                  <a:pt x="160" y="80"/>
                  <a:pt x="192" y="96"/>
                </a:cubicBezTo>
              </a:path>
            </a:pathLst>
          </a:custGeom>
          <a:noFill/>
          <a:ln w="2844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495680"/>
            <a:ext cx="189000" cy="115920"/>
          </a:xfrm>
          <a:prstGeom prst="octagon">
            <a:avLst>
              <a:gd name="adj" fmla="val 29287"/>
            </a:avLst>
          </a:prstGeom>
          <a:solidFill>
            <a:srgbClr val="0eb3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724280"/>
            <a:ext cx="152280" cy="15264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640"/>
              <a:gd name="textAreaBottom" fmla="*/ 1191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38480" y="4114800"/>
            <a:ext cx="228600" cy="304920"/>
            <a:chOff x="4038480" y="4114800"/>
            <a:chExt cx="228600" cy="304920"/>
          </a:xfrm>
        </p:grpSpPr>
        <p:sp>
          <p:nvSpPr>
            <p:cNvPr id="108" name=""/>
            <p:cNvSpPr/>
            <p:nvPr/>
          </p:nvSpPr>
          <p:spPr>
            <a:xfrm>
              <a:off x="4038480" y="4114800"/>
              <a:ext cx="228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eb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840" y="4174200"/>
              <a:ext cx="141480" cy="9252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840" y="4267080"/>
              <a:ext cx="141480" cy="9252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1972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1822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362320"/>
            <a:ext cx="304560" cy="30456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0"/>
                </a:moveTo>
                <a:cubicBezTo>
                  <a:pt x="80" y="40"/>
                  <a:pt x="160" y="80"/>
                  <a:pt x="192" y="96"/>
                </a:cubicBezTo>
              </a:path>
            </a:pathLst>
          </a:custGeom>
          <a:noFill/>
          <a:ln w="2844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05520" y="2590920"/>
            <a:ext cx="228600" cy="304560"/>
            <a:chOff x="5105520" y="2590920"/>
            <a:chExt cx="228600" cy="304560"/>
          </a:xfrm>
        </p:grpSpPr>
        <p:sp>
          <p:nvSpPr>
            <p:cNvPr id="114" name=""/>
            <p:cNvSpPr/>
            <p:nvPr/>
          </p:nvSpPr>
          <p:spPr>
            <a:xfrm>
              <a:off x="5105520" y="2590920"/>
              <a:ext cx="2286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eb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0880" y="2649960"/>
              <a:ext cx="141120" cy="9288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50880" y="2743200"/>
              <a:ext cx="141120" cy="92880"/>
            </a:xfrm>
            <a:prstGeom prst="octagon">
              <a:avLst>
                <a:gd name="adj" fmla="val 29287"/>
              </a:avLst>
            </a:prstGeom>
            <a:solidFill>
              <a:srgbClr val="0eb3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1122800">
            <a:off x="4647600" y="2133360"/>
            <a:ext cx="22860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144" y="144"/>
                </a:moveTo>
                <a:cubicBezTo>
                  <a:pt x="104" y="148"/>
                  <a:pt x="64" y="152"/>
                  <a:pt x="48" y="144"/>
                </a:cubicBezTo>
                <a:cubicBezTo>
                  <a:pt x="32" y="136"/>
                  <a:pt x="40" y="112"/>
                  <a:pt x="48" y="96"/>
                </a:cubicBezTo>
                <a:cubicBezTo>
                  <a:pt x="56" y="80"/>
                  <a:pt x="104" y="64"/>
                  <a:pt x="96" y="48"/>
                </a:cubicBezTo>
                <a:cubicBezTo>
                  <a:pt x="88" y="32"/>
                  <a:pt x="16" y="8"/>
                  <a:pt x="0" y="0"/>
                </a:cubicBezTo>
              </a:path>
            </a:pathLst>
          </a:custGeom>
          <a:noFill/>
          <a:ln w="2844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2362320"/>
            <a:ext cx="189000" cy="115920"/>
          </a:xfrm>
          <a:prstGeom prst="octagon">
            <a:avLst>
              <a:gd name="adj" fmla="val 29287"/>
            </a:avLst>
          </a:prstGeom>
          <a:solidFill>
            <a:srgbClr val="0eb3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205668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66440" y="6004080"/>
            <a:ext cx="199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ountdown Clock/Lap Cou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7920" y="6384960"/>
            <a:ext cx="119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AC Power 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004080"/>
            <a:ext cx="80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Start 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40080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Air Compres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3040" y="502920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560" y="304812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3760" y="19051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/Fi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7960" y="228600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dge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1401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240" y="3505320"/>
            <a:ext cx="5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52680" y="1981080"/>
            <a:ext cx="111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1822cd"/>
                </a:solidFill>
                <a:effectLst>
                  <a:outerShdw dist="17819" dir="2700000" blurRad="0" rotWithShape="0">
                    <a:srgbClr val="184b81"/>
                  </a:outerShdw>
                </a:effectLst>
                <a:latin typeface="Impact"/>
              </a:rPr>
              <a:t>Pursuit Line</a:t>
            </a:r>
            <a:endParaRPr b="0" lang="en-US" sz="1600" spc="1" strike="noStrike">
              <a:ln w="0">
                <a:noFill/>
              </a:ln>
              <a:solidFill>
                <a:srgbClr val="1822cd"/>
              </a:solidFill>
              <a:effectLst>
                <a:outerShdw dist="17819" dir="2700000" blurRad="0" rotWithShape="0">
                  <a:srgbClr val="184b81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84840" y="762120"/>
            <a:ext cx="2643840" cy="611280"/>
            <a:chOff x="3084840" y="762120"/>
            <a:chExt cx="2643840" cy="611280"/>
          </a:xfrm>
        </p:grpSpPr>
        <p:sp>
          <p:nvSpPr>
            <p:cNvPr id="132" name=""/>
            <p:cNvSpPr/>
            <p:nvPr/>
          </p:nvSpPr>
          <p:spPr>
            <a:xfrm>
              <a:off x="3084840" y="762120"/>
              <a:ext cx="102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ounc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99520" y="9907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s 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1096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 Ro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76920" y="472428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1822cd"/>
                </a:solidFill>
                <a:effectLst>
                  <a:outerShdw dist="17819" dir="2700000" blurRad="0" rotWithShape="0">
                    <a:srgbClr val="184b81"/>
                  </a:outerShdw>
                </a:effectLst>
                <a:latin typeface="Impact"/>
              </a:rPr>
              <a:t>Pursuit Line</a:t>
            </a:r>
            <a:endParaRPr b="0" lang="en-US" sz="1600" spc="1" strike="noStrike">
              <a:ln w="0">
                <a:noFill/>
              </a:ln>
              <a:solidFill>
                <a:srgbClr val="1822cd"/>
              </a:solidFill>
              <a:effectLst>
                <a:outerShdw dist="17819" dir="2700000" blurRad="0" rotWithShape="0">
                  <a:srgbClr val="184b81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68360" y="304920"/>
            <a:ext cx="8218440" cy="533232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8" name=""/>
          <p:cNvSpPr/>
          <p:nvPr/>
        </p:nvSpPr>
        <p:spPr>
          <a:xfrm>
            <a:off x="6172200" y="5867280"/>
            <a:ext cx="2279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Futura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Futura"/>
              </a:rPr>
              <a:t>Conduit R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Alge-Cable &amp; Power Signal Combi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at 5-Network Cable-Lyn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867280"/>
            <a:ext cx="335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1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 Black"/>
              </a:rPr>
              <a:t>PHOTO-FINISH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 Black"/>
              </a:rPr>
              <a:t>FINIS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923640" y="5867280"/>
            <a:ext cx="190440" cy="2667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971800" y="2361960"/>
            <a:ext cx="380880" cy="2286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0600" y="5943600"/>
            <a:ext cx="199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ountdown Clock/Lap Cou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02920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560" y="304812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560" y="21178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9400" y="3581280"/>
            <a:ext cx="5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95280" y="1371600"/>
            <a:ext cx="191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Start / Finish Line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47242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27672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er’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219320"/>
            <a:ext cx="0" cy="114300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362320"/>
            <a:ext cx="38088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1752480"/>
            <a:ext cx="15264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4240" y="1523880"/>
            <a:ext cx="203040" cy="385920"/>
            <a:chOff x="3684240" y="1523880"/>
            <a:chExt cx="203040" cy="385920"/>
          </a:xfrm>
        </p:grpSpPr>
        <p:sp>
          <p:nvSpPr>
            <p:cNvPr id="157" name=""/>
            <p:cNvSpPr/>
            <p:nvPr/>
          </p:nvSpPr>
          <p:spPr>
            <a:xfrm rot="5400000">
              <a:off x="3662640" y="1545480"/>
              <a:ext cx="244440" cy="20088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64800">
              <a:off x="3685320" y="1769400"/>
              <a:ext cx="200520" cy="138240"/>
            </a:xfrm>
            <a:custGeom>
              <a:avLst/>
              <a:gdLst>
                <a:gd name="textAreaLeft" fmla="*/ 43920 w 200520"/>
                <a:gd name="textAreaRight" fmla="*/ 156600 w 2005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768120" y="1725480"/>
              <a:ext cx="34560" cy="12024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429000" y="1219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2362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83520" y="2283120"/>
            <a:ext cx="204120" cy="387000"/>
            <a:chOff x="3683520" y="2283120"/>
            <a:chExt cx="204120" cy="387000"/>
          </a:xfrm>
        </p:grpSpPr>
        <p:sp>
          <p:nvSpPr>
            <p:cNvPr id="163" name=""/>
            <p:cNvSpPr/>
            <p:nvPr/>
          </p:nvSpPr>
          <p:spPr>
            <a:xfrm rot="16220400">
              <a:off x="3663000" y="2446920"/>
              <a:ext cx="244440" cy="20088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85200">
              <a:off x="3685320" y="2285280"/>
              <a:ext cx="200520" cy="138240"/>
            </a:xfrm>
            <a:custGeom>
              <a:avLst/>
              <a:gdLst>
                <a:gd name="textAreaLeft" fmla="*/ 43920 w 200520"/>
                <a:gd name="textAreaRight" fmla="*/ 156600 w 2005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20400">
              <a:off x="3768480" y="2347560"/>
              <a:ext cx="34560" cy="12024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81280" y="1752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42236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0" y="218448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dge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 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6019920"/>
            <a:ext cx="761760" cy="0"/>
          </a:xfrm>
          <a:prstGeom prst="line">
            <a:avLst/>
          </a:prstGeom>
          <a:ln w="7632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6019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1981080"/>
            <a:ext cx="990720" cy="228600"/>
          </a:xfrm>
          <a:custGeom>
            <a:avLst/>
            <a:gdLst>
              <a:gd name="textAreaLeft" fmla="*/ 173160 w 990720"/>
              <a:gd name="textAreaRight" fmla="*/ 718200 w 9907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84840" y="762120"/>
            <a:ext cx="2643840" cy="611280"/>
            <a:chOff x="3084840" y="762120"/>
            <a:chExt cx="2643840" cy="611280"/>
          </a:xfrm>
        </p:grpSpPr>
        <p:sp>
          <p:nvSpPr>
            <p:cNvPr id="174" name=""/>
            <p:cNvSpPr/>
            <p:nvPr/>
          </p:nvSpPr>
          <p:spPr>
            <a:xfrm>
              <a:off x="3084840" y="762120"/>
              <a:ext cx="102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ounc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99520" y="9907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s 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33920" y="1096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 Ro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68360" y="304920"/>
            <a:ext cx="8218440" cy="533232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9" name=""/>
          <p:cNvSpPr/>
          <p:nvPr/>
        </p:nvSpPr>
        <p:spPr>
          <a:xfrm>
            <a:off x="6172200" y="5943600"/>
            <a:ext cx="2279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Futura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Futura"/>
              </a:rPr>
              <a:t>Conduit R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Alge-Cable &amp; Power Signal Combi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at 5-Network Cable-Lyn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4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5080" y="5867280"/>
            <a:ext cx="335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1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 Black"/>
              </a:rPr>
              <a:t>PHOTO-FINISH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 Black"/>
              </a:rPr>
              <a:t>PURSUIT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5943600"/>
            <a:ext cx="190800" cy="2667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4159080" y="2323800"/>
            <a:ext cx="304920" cy="2286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37840" y="6004080"/>
            <a:ext cx="199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ountdown Clock/Lap Cou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58000" y="63849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Digital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3560" y="505944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840" y="312408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2560" y="205740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6040" y="53352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ounc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33080" y="3657600"/>
            <a:ext cx="5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2560" y="470844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33960" y="3306600"/>
            <a:ext cx="12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er’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9880" y="6399720"/>
            <a:ext cx="385920" cy="203040"/>
            <a:chOff x="3809880" y="6399720"/>
            <a:chExt cx="385920" cy="203040"/>
          </a:xfrm>
        </p:grpSpPr>
        <p:sp>
          <p:nvSpPr>
            <p:cNvPr id="194" name=""/>
            <p:cNvSpPr/>
            <p:nvPr/>
          </p:nvSpPr>
          <p:spPr>
            <a:xfrm>
              <a:off x="3809880" y="6401520"/>
              <a:ext cx="244440" cy="20088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64800">
              <a:off x="4024440" y="6431760"/>
              <a:ext cx="200520" cy="138240"/>
            </a:xfrm>
            <a:custGeom>
              <a:avLst/>
              <a:gdLst>
                <a:gd name="textAreaLeft" fmla="*/ 43920 w 200520"/>
                <a:gd name="textAreaRight" fmla="*/ 156600 w 2005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54320" y="6441480"/>
              <a:ext cx="34560" cy="12024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816360" y="1905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636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7760" y="1066680"/>
            <a:ext cx="0" cy="175284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64080" y="1219320"/>
            <a:ext cx="0" cy="144756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5840" y="3581280"/>
            <a:ext cx="15264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7760" y="2819520"/>
            <a:ext cx="83808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05120" y="3581280"/>
            <a:ext cx="203040" cy="385920"/>
            <a:chOff x="4605120" y="3581280"/>
            <a:chExt cx="203040" cy="385920"/>
          </a:xfrm>
        </p:grpSpPr>
        <p:sp>
          <p:nvSpPr>
            <p:cNvPr id="204" name=""/>
            <p:cNvSpPr/>
            <p:nvPr/>
          </p:nvSpPr>
          <p:spPr>
            <a:xfrm rot="5400000">
              <a:off x="4583520" y="3602880"/>
              <a:ext cx="244440" cy="20088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64800">
              <a:off x="4606200" y="3826800"/>
              <a:ext cx="200520" cy="138240"/>
            </a:xfrm>
            <a:custGeom>
              <a:avLst/>
              <a:gdLst>
                <a:gd name="textAreaLeft" fmla="*/ 43920 w 200520"/>
                <a:gd name="textAreaRight" fmla="*/ 156600 w 2005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4689000" y="3782880"/>
              <a:ext cx="34560" cy="12024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87760" y="11430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5480" y="2819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5840" y="3581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4080" y="12193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92480" y="2286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dge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6095880"/>
            <a:ext cx="761760" cy="0"/>
          </a:xfrm>
          <a:prstGeom prst="line">
            <a:avLst/>
          </a:prstGeom>
          <a:ln w="7632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6095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25840" y="2819520"/>
            <a:ext cx="0" cy="76176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5840" y="2743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64080" y="2666880"/>
            <a:ext cx="83808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6408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2160" y="2666880"/>
            <a:ext cx="0" cy="60984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2160" y="2666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2160" y="3276720"/>
            <a:ext cx="15228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02160" y="3276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7840" y="838080"/>
            <a:ext cx="7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7760" y="1066680"/>
            <a:ext cx="45720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64080" y="1219320"/>
            <a:ext cx="380880" cy="0"/>
          </a:xfrm>
          <a:prstGeom prst="line">
            <a:avLst/>
          </a:prstGeom>
          <a:ln w="50760">
            <a:solidFill>
              <a:srgbClr val="ffe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776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64080" y="1219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724280"/>
            <a:ext cx="6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54440" y="198072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40200">
            <a:off x="4997160" y="4381560"/>
            <a:ext cx="304920" cy="2286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T100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04400" y="2892600"/>
            <a:ext cx="204120" cy="387000"/>
            <a:chOff x="4604400" y="2892600"/>
            <a:chExt cx="204120" cy="387000"/>
          </a:xfrm>
        </p:grpSpPr>
        <p:sp>
          <p:nvSpPr>
            <p:cNvPr id="231" name=""/>
            <p:cNvSpPr/>
            <p:nvPr/>
          </p:nvSpPr>
          <p:spPr>
            <a:xfrm rot="16220400">
              <a:off x="4583880" y="3056400"/>
              <a:ext cx="244440" cy="20088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85200">
              <a:off x="4606200" y="2894760"/>
              <a:ext cx="200520" cy="138240"/>
            </a:xfrm>
            <a:custGeom>
              <a:avLst/>
              <a:gdLst>
                <a:gd name="textAreaLeft" fmla="*/ 43920 w 200520"/>
                <a:gd name="textAreaRight" fmla="*/ 156600 w 2005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20400">
              <a:off x="4689360" y="2957040"/>
              <a:ext cx="34560" cy="120240"/>
            </a:xfrm>
            <a:prstGeom prst="rect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24280" y="4724280"/>
            <a:ext cx="64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743200"/>
            <a:ext cx="304560" cy="838080"/>
          </a:xfrm>
          <a:custGeom>
            <a:avLst/>
            <a:gdLst>
              <a:gd name="textAreaLeft" fmla="*/ 40680 w 304560"/>
              <a:gd name="textAreaRight" fmla="*/ 263880 w 30456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822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0" r="0" b="9852"/>
          <a:stretch/>
        </p:blipFill>
        <p:spPr>
          <a:xfrm>
            <a:off x="457200" y="304920"/>
            <a:ext cx="8218440" cy="5332320"/>
          </a:xfrm>
          <a:prstGeom prst="rect">
            <a:avLst/>
          </a:prstGeom>
          <a:ln w="7632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1219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2438280"/>
            <a:ext cx="0" cy="91440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915160"/>
            <a:ext cx="6400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cd"/>
                </a:solidFill>
                <a:latin typeface="Arial Black"/>
              </a:rPr>
              <a:t>TAPE SWITCHES &amp;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608004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Head Ph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505944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560" y="304812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14479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-Straight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85720" y="3200400"/>
            <a:ext cx="5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1981080"/>
            <a:ext cx="0" cy="304920"/>
          </a:xfrm>
          <a:prstGeom prst="line">
            <a:avLst/>
          </a:prstGeom>
          <a:ln w="284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1981080"/>
            <a:ext cx="0" cy="304920"/>
          </a:xfrm>
          <a:prstGeom prst="line">
            <a:avLst/>
          </a:prstGeom>
          <a:ln w="284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90560" y="4495680"/>
            <a:ext cx="2057400" cy="0"/>
          </a:xfrm>
          <a:prstGeom prst="line">
            <a:avLst/>
          </a:prstGeom>
          <a:ln w="255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600200" y="3809520"/>
            <a:ext cx="990720" cy="685800"/>
          </a:xfrm>
          <a:prstGeom prst="line">
            <a:avLst/>
          </a:prstGeom>
          <a:ln w="255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3429000"/>
            <a:ext cx="0" cy="1066680"/>
          </a:xfrm>
          <a:prstGeom prst="line">
            <a:avLst/>
          </a:prstGeom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276720"/>
            <a:ext cx="304920" cy="2286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2435760"/>
            <a:ext cx="838080" cy="5040"/>
          </a:xfrm>
          <a:prstGeom prst="line">
            <a:avLst/>
          </a:prstGeom>
          <a:ln w="633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1066680"/>
            <a:ext cx="0" cy="1371600"/>
          </a:xfrm>
          <a:prstGeom prst="line">
            <a:avLst/>
          </a:prstGeom>
          <a:ln w="1144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2362320"/>
            <a:ext cx="152280" cy="152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124080"/>
            <a:ext cx="152280" cy="152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4419720"/>
            <a:ext cx="152280" cy="152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6400800"/>
            <a:ext cx="152280" cy="152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1520" y="6324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"/>
              </a:rPr>
              <a:t>Conduit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990720"/>
            <a:ext cx="152640" cy="152280"/>
          </a:xfrm>
          <a:prstGeom prst="hexagon">
            <a:avLst>
              <a:gd name="adj" fmla="val 25059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838080"/>
            <a:ext cx="685800" cy="457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2286000"/>
            <a:ext cx="762120" cy="380880"/>
          </a:xfrm>
          <a:prstGeom prst="leftArrowCallout">
            <a:avLst>
              <a:gd name="adj1" fmla="val 25002"/>
              <a:gd name="adj2" fmla="val 25000"/>
              <a:gd name="adj3" fmla="val 33349"/>
              <a:gd name="adj4" fmla="val 666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2971800"/>
            <a:ext cx="762120" cy="380880"/>
          </a:xfrm>
          <a:prstGeom prst="leftArrowCallout">
            <a:avLst>
              <a:gd name="adj1" fmla="val 25002"/>
              <a:gd name="adj2" fmla="val 25000"/>
              <a:gd name="adj3" fmla="val 33349"/>
              <a:gd name="adj4" fmla="val 666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2670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505320"/>
            <a:ext cx="762120" cy="380880"/>
          </a:xfrm>
          <a:prstGeom prst="leftArrowCallout">
            <a:avLst>
              <a:gd name="adj1" fmla="val 25002"/>
              <a:gd name="adj2" fmla="val 25000"/>
              <a:gd name="adj3" fmla="val 33349"/>
              <a:gd name="adj4" fmla="val 666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2025720"/>
            <a:ext cx="129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476892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rsuit 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5200" y="18590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/Fi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368784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er’s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284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371600" y="3733560"/>
            <a:ext cx="152280" cy="75960"/>
          </a:xfrm>
          <a:prstGeom prst="line">
            <a:avLst/>
          </a:prstGeom>
          <a:ln w="19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2590920"/>
            <a:ext cx="609840" cy="533160"/>
          </a:xfrm>
          <a:prstGeom prst="upArrowCallout">
            <a:avLst>
              <a:gd name="adj1" fmla="val 28598"/>
              <a:gd name="adj2" fmla="val 28596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303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03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4892760" y="33973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3733920" y="1905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3581280" y="914400"/>
            <a:ext cx="30348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7086600" y="60199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429000" y="2133720"/>
            <a:ext cx="121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dges St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4520" y="45720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ounc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39200" y="762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s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914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2435400"/>
            <a:ext cx="533520" cy="2880"/>
          </a:xfrm>
          <a:prstGeom prst="line">
            <a:avLst/>
          </a:prstGeom>
          <a:ln w="7632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2362320"/>
            <a:ext cx="152640" cy="152280"/>
          </a:xfrm>
          <a:prstGeom prst="hexagon">
            <a:avLst>
              <a:gd name="adj" fmla="val 25059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657600"/>
            <a:ext cx="152640" cy="152280"/>
          </a:xfrm>
          <a:prstGeom prst="hexagon">
            <a:avLst>
              <a:gd name="adj" fmla="val 25059"/>
              <a:gd name="vf" fmla="val 115470"/>
            </a:avLst>
          </a:prstGeom>
          <a:solidFill>
            <a:srgbClr val="0000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4724280"/>
            <a:ext cx="0" cy="304920"/>
          </a:xfrm>
          <a:prstGeom prst="line">
            <a:avLst/>
          </a:prstGeom>
          <a:ln w="284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2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3:19:35Z</dcterms:created>
  <dc:creator>Liz</dc:creator>
  <dc:description/>
  <dc:language>en-US</dc:language>
  <cp:lastModifiedBy>Hilda J. Patton</cp:lastModifiedBy>
  <dcterms:modified xsi:type="dcterms:W3CDTF">2002-04-08T01:39:26Z</dcterms:modified>
  <cp:revision>30</cp:revision>
  <dc:subject/>
  <dc:title>PowerPoint Presentation</dc:title>
</cp:coreProperties>
</file>